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3BCA-49A2-4AB0-B45E-0E199F0B8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00CB-1BE4-4924-902C-118B79E1E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96FF-C4A9-497B-AF7B-7A3BABF0E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8FE3-1FF8-431C-8B6E-BA9A0E5E1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68C0-57B9-4AD5-A46A-B399F2FD6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AB33-247F-44C0-8149-29689BCA5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4A8D-7D94-4276-B429-1D299139C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730F-D562-461A-9BE0-453506583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F469-CD51-4F5D-90F3-6CBE1EAB2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87C7-7891-4D89-B700-0F1A85CA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89C6-0073-4DDF-8B79-AD0D6ED4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EAE9-F308-478A-A525-69E64858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2EADA2-2394-4069-948B-AABD93624D9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90520"/>
            <a:ext cx="960120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very's Steam Powered Water Pump:  The world's first engine (1698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8680"/>
            <a:ext cx="907092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86400" cy="56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ttonopolis”:  Manchester, England (184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502920" y="1858680"/>
            <a:ext cx="907092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06320" y="1600200"/>
            <a:ext cx="8666280" cy="544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comen's steam powered atmospheric engine (171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02920" y="1858680"/>
            <a:ext cx="907092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743200" y="2057400"/>
            <a:ext cx="5022720" cy="550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pinning Jenny (176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2920" y="1858680"/>
            <a:ext cx="907092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8229600" cy="59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mes Watt's Steam Engine (177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1858680"/>
            <a:ext cx="907092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9086760" cy="57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pinning Mule (1779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58680"/>
            <a:ext cx="907092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91440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5040" y="301320"/>
            <a:ext cx="9205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ustrial-age textile mill </a:t>
            </a:r>
            <a:br>
              <a:rPr sz="44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combined spinning and weaving inventions with steam powe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736640"/>
            <a:ext cx="9274320" cy="579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Charlotte Dunda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(180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31880" y="2103480"/>
            <a:ext cx="850428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ffing Billy (1813):  an early railway steam eng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02920" y="1858680"/>
            <a:ext cx="907092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8001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albroakdale by Night” (1801)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ip Jakob Loutherbourg the You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502920" y="1858680"/>
            <a:ext cx="907092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03200" y="1600200"/>
            <a:ext cx="9426600" cy="5448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1:50:17Z</dcterms:created>
  <dc:creator/>
  <dc:description/>
  <dc:language>en-US</dc:language>
  <cp:lastModifiedBy/>
  <cp:revision>0</cp:revision>
  <dc:subject/>
  <dc:title/>
</cp:coreProperties>
</file>